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2180-2EB1-4C3D-9A53-E6D7420D5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CE95-59AF-478E-97C9-746341353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CABFC62-5743-46F5-8C10-6CC8E8223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2F48F5E-7B8C-4460-AF41-46C5F9391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564805-0EF0-40CE-B421-2E819EF23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1BBDB25-4DF5-465D-B40D-68D38EE7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FE1EE7E-4C80-44ED-8E03-0FAB868D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D159FC8-6A2E-4FFC-A63D-3F57FE71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8461656-92CA-4293-AF55-EE27F922F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254E260-C971-4859-896C-0A53DBA7B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0A8A5DE-3835-4EAA-A665-D51C8EE76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E8CD23-5218-4D4C-AC25-C607B296A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A101-514B-496E-AAB4-65F3F88FC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93898A-F52A-406F-9232-6BAE05EA0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150264-E623-4641-969B-5E5066AA1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FC3452-EA32-4C63-8055-F62702759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B5666D-A330-4291-8AB0-95C869B56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ECBBA0-6CAB-4431-AA4D-EB89D0419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4EAD5B-D466-4213-B1C8-724105FDE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0C1379-C82E-41B6-9FE8-5B59EAC3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84A5FF-4F9E-4533-81BD-5A0823870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BE19A5-1B21-4F88-9578-22FB32CEE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BE9D7F-BB5D-4A36-B28D-42C4DD026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3763-C9F5-40DE-9DFB-7D7E4FF53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7A8DEF-BD9B-4277-B737-7ECE43625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A285E3-F788-4DF2-B01D-C9616223E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B4AF3E-0A62-4DB7-A641-22FC8D4F4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2113B5-1E9E-43C0-B65E-03DCED08B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327460-3C9B-44EA-8906-C5EA996F8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5D41C5-4989-469C-AEDA-3DCCD20F1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59C3C9-1DA8-4F85-8081-3647E7029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74451A-52A8-476D-A463-EBB63B6A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CE6ECF-B759-4F61-B880-24E66BB57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B65D29-9E45-485B-8D02-C963087D5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C34CD-8EC7-4514-887E-C0EE86749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74AE54-4FDA-46F2-88A7-420BCCC9B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9DDFB2-6C5F-49D6-B6FD-B97EBD1F4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66F265-160C-496D-8A9A-3BF612594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9DAC5B-17B4-4F74-917C-836C64FF2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821C99-4165-4E73-8DBA-D606AB92C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C3FB1F-4EB0-41B9-94C5-871203EF9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BD65AA-60C1-479E-A608-10E1AA280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5E73A5-198C-4EB7-920F-7ADF8C9AD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D44091-C530-4FDF-A9D2-71D29CE97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5C170A-CD3F-47A3-8F55-E1EA057C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A1A09-5A3F-4667-9381-5A4C62023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5D001D-D7C9-4FC3-BE1F-47E491B1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DB482E-6F1F-40B7-92E2-8B12B9E2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401EF4-794D-4392-B68B-18AFCA314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84CEFE-8E7A-4FEF-B209-DB73A2229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422362-9623-4DE2-9DFE-77AF0C85B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FF527-BF76-47EC-9195-D9D0CA238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62045-7AEB-406F-ABFE-9364414A2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8BAC3-7712-4BAF-817F-BC056C027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B2046-8CDA-4BE3-8AE7-60C43B4C2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B0CDA-D493-4A03-BA27-130DE5DD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9B01-F519-4BB6-8425-0856759BD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7FBEC-EA88-4BE7-8B75-283EFFF8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F0926-E19A-4AF1-B602-99733C23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E07F9-B260-417E-957B-6080297D0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1D8FE-2125-4C95-A81E-7F3FE45DE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5B274-1B3C-43CF-BCCC-80FEE0270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312C9-AD9D-4783-B451-E0BE286C2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87AC6-8FF2-40B1-9685-A4EA70BE6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C2BB3-6B06-4C71-AC01-7114744D1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54440-B032-4EA2-9040-56FEC95D3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3C171-B4FC-449C-A9A1-5A103220F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AF0B-2339-42D5-A38E-147CF2D4F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23587-EB66-4AE7-B42F-FC6530F16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C8D14-A749-4D1B-84BC-DC8CC8D69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429AA-F028-484E-BD91-D941D0EF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88E91-A225-4097-B01D-C5BBF0D5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8BB40-44A3-4F21-823D-3800A427A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07A01-BC86-4F49-B5AA-A70EA39B3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45483-F57B-4233-816D-66C821197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9086C-8E37-4A16-8E17-3EEB00A48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CED45-7D66-4718-8CF2-66F3D0B89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420CC-50E1-4624-B0EC-F66DC3452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3396-E11E-4913-9E31-91892815D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25B15-A90B-455D-A447-323209C4B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CAAE2-CC30-479A-A0D8-2F3F3FB81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05420-9539-4389-BB5F-DA973183F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3A9F8-3BAE-4D5C-B584-FE59063E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65587-1B0E-4F53-A243-0DF4AD05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EFF6A-92EC-4726-AFD0-1C7CAFEDA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F5D9E-8629-47E1-90BD-DF1B5AB4F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B72C3-0321-42FB-B58A-A44BFF24D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213F8-712C-4051-8108-E097AAE73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735F0-4E3A-4919-89FC-77E7DF97D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528A-764A-4660-BFDE-C1B00E3B0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6DF53D-AD69-4FCD-BB91-A16C88E87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D22B32-C829-4237-BE00-5CA4D8EBF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3E54DB-D95D-4E71-A9CF-2E6B990C7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1021A4-28EA-4B41-9880-4AD857FB4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221508-0125-45AB-8BCE-DA8861D61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0E714D-378D-43FF-8CCE-D16FBAC6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775A0-BD33-43C9-9C76-1129C955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5E622-FA93-4552-B977-4AF54B795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DE134-B382-4486-9426-A6B7D3E66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44923-21E4-4FFB-A304-8445F338C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0010-8839-413A-AED8-ED74970E0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CD78E-6927-412B-AABE-48D634647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5CE0F9-57AE-47C6-8845-9ED47A08D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139E7-596B-4C27-9D85-282898403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250198-A85B-4F74-8BB1-7DA18E62D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39820-D3B6-408D-994F-C05D182D2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37052E-F833-43C4-9E67-73CA0EDF4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9D0394-0350-461D-A2CF-DC7A24BA6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7CEDCA-8F96-42D2-952C-B64424F9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31CCF-2290-4CBB-AD6E-4ECFD3FD6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8483E8-DBB3-4519-B21B-2CBD3E9DE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8C93-0F48-4336-A20E-A6836909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E6559B-03DD-4F59-97B7-6A8CC98C8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DE1700-1948-43B5-8D8D-49E7C410C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68D834-028F-47E4-BBC7-D463F679A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5C0BB5-44E5-4CCF-A510-1CD6A9D08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F05384-28ED-44E8-80EE-FCF7E6778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D22344-54B8-4623-9006-8F1B7C93E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4ABA25-B99B-459B-901D-065854A21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C6BA7B-F3DD-4AA1-A10B-96FBB7B1B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63FA92-CD37-4658-8AB1-E096C9521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405CF7-193E-49D6-B51C-3BA52157E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292A-3D93-44A4-836B-36A2A9121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66B7B6-693C-4E00-8C04-2714C76F0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907EC6-1D9C-40F6-A4C5-A3A4D57B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465F48-F543-49AC-BEE7-529D8B7FD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B27DAA-36A4-40AA-9258-2707241DF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8E14C7-88FC-46CF-BB52-8F3C990DE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958D25-6759-4464-B2EE-D47487C29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C9D257-9215-4D40-8893-DB1DE6413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6B64B5-BA0C-4D38-ACE1-4F99C38D0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7D5343-1821-41A0-AD62-87BFBBFF7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B2CEE5-D869-42F3-9E93-DDF138F70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B0FE-0161-4AA7-A37F-0AD49DC4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DFF097-A352-4C28-B3ED-902B88F19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0E03D9-BF17-4A63-83F7-2853EE496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950BFF-E661-4362-B15B-A5B29A958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005E6E-B78F-4A2D-9354-7E785E7D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2227E6-6311-4B84-9D53-38BCEF834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F61136-14D2-4F52-A680-3879FF446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F9D695-0C2E-44A4-8902-229965802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CDEAECF-F494-48BB-A814-6C0EC8588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3410647-D58F-4820-8A79-1080D08BB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3499281-50E2-4F01-87C4-3EC69912B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6E927-54C2-4EB9-8242-2545525E63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0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638C4-FD4D-45D1-BFE3-45A260184B6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57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57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7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57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58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58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58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58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58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59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59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59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60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60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60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61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61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61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61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62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62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62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3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3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3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64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64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64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4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5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65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65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65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66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66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66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66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67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67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67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68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8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4F476-90C0-4204-98AD-3148BF6D3FD5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74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74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5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75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75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75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75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75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76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76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76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76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77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77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77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78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78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78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79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79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79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79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80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80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80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81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81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81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1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2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82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82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82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3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83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3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83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3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83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3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84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4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84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4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84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4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84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5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85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85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85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85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6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6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86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5450A-29E5-4F4C-AC67-AA15CFFD641E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E394F-A299-41F8-B415-FDDA47CD6D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98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3FB34-82E2-4B68-BB70-49DD0176F18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143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10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ftr" idx="11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sldNum" idx="12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74034-E4D5-414E-BDD5-E77752476C2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87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7038B-F447-4BA7-BD86-67672474C36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236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8F7B2-7A03-4896-AFA4-67D537D0427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84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21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8E809-AE01-4090-831E-C4302BD0CB9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4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365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402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AE54B-392F-4B96-8CBC-E2DDDDE09E9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6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4351F-0315-43C7-BBFD-5CF0C3DC4F7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dt" idx="2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nap ITC"/>
              </a:rPr>
              <a:t>Russia’s Econom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nap ITC"/>
              </a:rPr>
              <a:t>By: Mario Ragusa, Alex Huynh, and Fiona Schmid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Ravie"/>
              </a:rPr>
              <a:t>Problems/Solutions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avie"/>
              </a:rPr>
              <a:t>Problem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avie"/>
              </a:rPr>
              <a:t>Factories focused on heavy indus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avie"/>
              </a:rPr>
              <a:t>Had older indus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Ravie"/>
              </a:rPr>
              <a:t>Solu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avi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Ravie"/>
              </a:rPr>
              <a:t>factories shifted to light indus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avie"/>
              </a:rPr>
              <a:t>High-technology industries have appea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1596960" y="3019320"/>
            <a:ext cx="308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9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9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9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9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9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9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Tempus Sans ITC"/>
              </a:rPr>
              <a:t>Important parts of Russia's econom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iller"/>
              </a:rPr>
              <a:t>Gold and fish are both found in South Eastern Russ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iller"/>
              </a:rPr>
              <a:t>Coal is a major resource and is found in the cold parts of Russ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iller"/>
              </a:rPr>
              <a:t>Russia is one of the leading oil producer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7" name="" descr=""/>
          <p:cNvPicPr/>
          <p:nvPr/>
        </p:nvPicPr>
        <p:blipFill>
          <a:blip r:embed="rId1"/>
          <a:stretch/>
        </p:blipFill>
        <p:spPr>
          <a:xfrm>
            <a:off x="4917960" y="1904760"/>
            <a:ext cx="3927600" cy="4190760"/>
          </a:xfrm>
          <a:prstGeom prst="rect">
            <a:avLst/>
          </a:prstGeom>
          <a:ln w="0">
            <a:noFill/>
          </a:ln>
        </p:spPr>
      </p:pic>
      <p:pic>
        <p:nvPicPr>
          <p:cNvPr id="928" name="" descr=""/>
          <p:cNvPicPr/>
          <p:nvPr/>
        </p:nvPicPr>
        <p:blipFill>
          <a:blip r:embed="rId2"/>
          <a:stretch/>
        </p:blipFill>
        <p:spPr>
          <a:xfrm>
            <a:off x="4648320" y="1828800"/>
            <a:ext cx="1904760" cy="2133720"/>
          </a:xfrm>
          <a:prstGeom prst="rect">
            <a:avLst/>
          </a:prstGeom>
          <a:ln w="0">
            <a:noFill/>
          </a:ln>
        </p:spPr>
      </p:pic>
      <p:pic>
        <p:nvPicPr>
          <p:cNvPr id="929" name="" descr=""/>
          <p:cNvPicPr/>
          <p:nvPr/>
        </p:nvPicPr>
        <p:blipFill>
          <a:blip r:embed="rId3"/>
          <a:stretch/>
        </p:blipFill>
        <p:spPr>
          <a:xfrm>
            <a:off x="4648320" y="3962520"/>
            <a:ext cx="1904760" cy="2149200"/>
          </a:xfrm>
          <a:prstGeom prst="rect">
            <a:avLst/>
          </a:prstGeom>
          <a:ln w="0">
            <a:noFill/>
          </a:ln>
        </p:spPr>
      </p:pic>
      <p:pic>
        <p:nvPicPr>
          <p:cNvPr id="930" name="" descr=""/>
          <p:cNvPicPr/>
          <p:nvPr/>
        </p:nvPicPr>
        <p:blipFill>
          <a:blip r:embed="rId4"/>
          <a:stretch/>
        </p:blipFill>
        <p:spPr>
          <a:xfrm>
            <a:off x="6553080" y="1828800"/>
            <a:ext cx="2286000" cy="2133720"/>
          </a:xfrm>
          <a:prstGeom prst="rect">
            <a:avLst/>
          </a:prstGeom>
          <a:ln w="0">
            <a:noFill/>
          </a:ln>
        </p:spPr>
      </p:pic>
      <p:pic>
        <p:nvPicPr>
          <p:cNvPr id="931" name="" descr=""/>
          <p:cNvPicPr/>
          <p:nvPr/>
        </p:nvPicPr>
        <p:blipFill>
          <a:blip r:embed="rId5"/>
          <a:stretch/>
        </p:blipFill>
        <p:spPr>
          <a:xfrm>
            <a:off x="6553080" y="3962520"/>
            <a:ext cx="228600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3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98" fill="hold"/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98" fill="hold"/>
                                        <p:tgtEl>
                                          <p:spTgt spid="9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9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98" fill="hold"/>
                                        <p:tgtEl>
                                          <p:spTgt spid="9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tencil"/>
              </a:rPr>
              <a:t>Russia’s Growt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98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Stencil"/>
              </a:rPr>
              <a:t>Russia has increased since the economic crisis of the fall of the Soviet Union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Stencil"/>
              </a:rPr>
              <a:t>They changed from Yeltsin years to Putin years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"/>
          <p:cNvSpPr txBox="1"/>
          <p:nvPr/>
        </p:nvSpPr>
        <p:spPr>
          <a:xfrm>
            <a:off x="4687920" y="1828800"/>
            <a:ext cx="3998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5" name="" descr=""/>
          <p:cNvPicPr/>
          <p:nvPr/>
        </p:nvPicPr>
        <p:blipFill>
          <a:blip r:embed="rId1"/>
          <a:stretch/>
        </p:blipFill>
        <p:spPr>
          <a:xfrm>
            <a:off x="4648320" y="1828800"/>
            <a:ext cx="4038480" cy="41911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stellar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astellar"/>
              </a:rPr>
              <a:t>Important Fac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stellar"/>
              </a:rPr>
              <a:t>Getting to the materials In Russia is difficult because Serbia is mostly undeveloped because of its climat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stellar"/>
              </a:rPr>
              <a:t>Russia exports petroleum, natural gas, wood and metal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split dir="in" orient="ver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9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9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REDIT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signed by Alex, Mario and Fio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yped by Alex, Mario and Fio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earch by Alex, Mario and Fio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50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50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5000" fill="hold"/>
                                        <p:tgtEl>
                                          <p:spTgt spid="9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5000" fill="hold"/>
                                        <p:tgtEl>
                                          <p:spTgt spid="9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5000" fill="hold"/>
                                        <p:tgtEl>
                                          <p:spTgt spid="9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5000" fill="hold"/>
                                        <p:tgtEl>
                                          <p:spTgt spid="9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5000" fill="hold"/>
                                        <p:tgtEl>
                                          <p:spTgt spid="9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5000" fill="hold"/>
                                        <p:tgtEl>
                                          <p:spTgt spid="9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09:53:25Z</dcterms:created>
  <dc:creator> </dc:creator>
  <dc:description/>
  <dc:language>en-US</dc:language>
  <cp:lastModifiedBy> </cp:lastModifiedBy>
  <dcterms:modified xsi:type="dcterms:W3CDTF">2010-12-15T18:43:06Z</dcterms:modified>
  <cp:revision>6</cp:revision>
  <dc:subject/>
  <dc:title>Russia’s Economy</dc:title>
</cp:coreProperties>
</file>